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6417-50AB-4851-B02F-D6FC2DF73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F28F-CA84-4680-9638-36600B528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1879-07BD-4FDF-B530-56E5BDDB2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AA2F-C0A3-4EB2-B71A-43CFC7BE9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CEA6-640C-4B43-92E3-2C4F5438E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9F71-34D0-429C-B4DD-4FDD1C982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747E-ADA5-4F3C-B9B6-03561F4A2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3584-5C91-41B5-85BD-35CAB578A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8E2F-1C8B-48B7-B687-11F9772CB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8450-C64E-40C4-B88B-BE7C9577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701D-3176-4C62-95FB-1F4B96B42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EA90-6F9F-4811-A48D-E4BDD629D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4EF95-C0ED-4511-8FFE-386D09DCE0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87280" y="1557360"/>
            <a:ext cx="727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cc"/>
                </a:solidFill>
                <a:latin typeface="Arial"/>
              </a:rPr>
              <a:t>What characterises Mass Tourism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125360"/>
            <a:ext cx="6359400" cy="42069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11280" y="549360"/>
            <a:ext cx="59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cc"/>
                </a:solidFill>
                <a:latin typeface="Arial"/>
              </a:rPr>
              <a:t>…………………</a:t>
            </a:r>
            <a:r>
              <a:rPr b="0" lang="en-US" sz="1800" spc="-1" strike="noStrike">
                <a:solidFill>
                  <a:srgbClr val="ff33cc"/>
                </a:solidFill>
                <a:latin typeface="Arial"/>
              </a:rPr>
              <a:t>..is this a mass tourist resort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305760" cy="4171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57440" y="620640"/>
            <a:ext cx="47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cc"/>
                </a:solidFill>
                <a:latin typeface="Arial"/>
              </a:rPr>
              <a:t>…………………</a:t>
            </a:r>
            <a:r>
              <a:rPr b="0" lang="en-US" sz="1800" spc="-1" strike="noStrike">
                <a:solidFill>
                  <a:srgbClr val="ff33cc"/>
                </a:solidFill>
                <a:latin typeface="Arial"/>
              </a:rPr>
              <a:t>..is this a mass tourist resor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87280" y="1268280"/>
            <a:ext cx="6305760" cy="41817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70160" y="476280"/>
            <a:ext cx="49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cc"/>
                </a:solidFill>
                <a:latin typeface="Arial"/>
              </a:rPr>
              <a:t>…………………</a:t>
            </a:r>
            <a:r>
              <a:rPr b="0" lang="en-US" sz="1800" spc="-1" strike="noStrike">
                <a:solidFill>
                  <a:srgbClr val="ff33cc"/>
                </a:solidFill>
                <a:latin typeface="Arial"/>
              </a:rPr>
              <a:t>..is this a  mass tourist resort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87280" y="1341360"/>
            <a:ext cx="6840720" cy="43196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57800" y="476280"/>
            <a:ext cx="416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cc"/>
                </a:solidFill>
                <a:latin typeface="Arial"/>
              </a:rPr>
              <a:t>…………………</a:t>
            </a:r>
            <a:r>
              <a:rPr b="0" lang="en-US" sz="1800" spc="-1" strike="noStrike">
                <a:solidFill>
                  <a:srgbClr val="ff33cc"/>
                </a:solidFill>
                <a:latin typeface="Arial"/>
              </a:rPr>
              <a:t>..is this mass tourism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843280" y="765000"/>
            <a:ext cx="4190760" cy="54486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95280" y="333360"/>
            <a:ext cx="49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cc"/>
                </a:solidFill>
                <a:latin typeface="Arial"/>
              </a:rPr>
              <a:t>…………………</a:t>
            </a:r>
            <a:r>
              <a:rPr b="0" lang="en-US" sz="1800" spc="-1" strike="noStrike">
                <a:solidFill>
                  <a:srgbClr val="ff33cc"/>
                </a:solidFill>
                <a:latin typeface="Arial"/>
              </a:rPr>
              <a:t>..is this a  mass tourist resort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6797520" cy="45734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829080" y="549360"/>
            <a:ext cx="416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cc"/>
                </a:solidFill>
                <a:latin typeface="Arial"/>
              </a:rPr>
              <a:t>…………………</a:t>
            </a:r>
            <a:r>
              <a:rPr b="0" lang="en-US" sz="1800" spc="-1" strike="noStrike">
                <a:solidFill>
                  <a:srgbClr val="ff33cc"/>
                </a:solidFill>
                <a:latin typeface="Arial"/>
              </a:rPr>
              <a:t>..is this mass tourism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042920" y="1125360"/>
            <a:ext cx="7274160" cy="28083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49640" y="1719360"/>
            <a:ext cx="51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So………………..what do you think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332000" y="1341360"/>
            <a:ext cx="6624720" cy="43196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902160" y="620640"/>
            <a:ext cx="416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cc"/>
                </a:solidFill>
                <a:latin typeface="Arial"/>
              </a:rPr>
              <a:t>…………………</a:t>
            </a:r>
            <a:r>
              <a:rPr b="0" lang="en-US" sz="1800" spc="-1" strike="noStrike">
                <a:solidFill>
                  <a:srgbClr val="ff33cc"/>
                </a:solidFill>
                <a:latin typeface="Arial"/>
              </a:rPr>
              <a:t>..is this mass tourism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5T09:14:25Z</dcterms:created>
  <dc:creator>ISS</dc:creator>
  <dc:description/>
  <dc:language>en-US</dc:language>
  <cp:lastModifiedBy>ISS</cp:lastModifiedBy>
  <dcterms:modified xsi:type="dcterms:W3CDTF">2006-04-25T09:40:42Z</dcterms:modified>
  <cp:revision>3</cp:revision>
  <dc:subject/>
  <dc:title>Slide 1</dc:title>
</cp:coreProperties>
</file>